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567-9E4A-4A79-99AB-121B9D659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C0ED-7B79-4FFC-A997-BDE2E00046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7F4-290A-490C-9F01-BF3674DE5A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B7BF-7208-47EF-91D0-6E057CE73E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7C4-6B2D-437E-B27D-C416A77AFE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E3E2-6997-40A6-A324-42FAD08A12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391-BED1-43F4-9692-717BF1847C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276-BA45-4B49-B8CD-B1DAE123BC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4635-14DD-449A-9F75-728621E31E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F604-238F-47FE-BCBD-6C92C98CD9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72BB-6AAB-44EC-BD06-CD37FC0505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6E61-16DD-4064-9113-C31A63417C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7F4-0DFC-4387-AD5E-2AE63D6414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7E0-583D-4849-917C-93082ADF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F3B-2C67-4A9C-8CBF-3F3630F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F67-219E-4BAA-B3DC-38B1875C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A64-E4E8-4F48-9C1B-2DE8B671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D9D36-69D0-43B4-B830-7006683B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7F4DA-28B0-4F9B-9A40-81512CCE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BD68A-6117-4F02-B042-14149CA5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0414F-A05B-40E9-9522-C44EA8F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1CF9-3AFC-4E79-BFEE-6ED2F3E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44B52-3D0F-4EC6-86AB-72D941FB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FE7BC-74B8-4626-BA74-DB23AA7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A41-9162-4E29-9C7A-72E7D4CC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48F2-CA49-4B47-A512-50C3342F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E9426-4154-4E92-92CC-4A0F602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31C18-FBB7-42ED-9714-D00F1772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A856-4028-42C5-B637-0A398633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ABFAA-0CB8-4592-8BFF-ECCC127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A373-1D2F-4315-90F4-B3A29F31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1811-9A90-4498-ADB7-C6663BD3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3883-8D5C-49F1-9B4C-E4F32B76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816C-0A09-427B-B67C-A49F214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AA19-8261-4822-BFB1-262824C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F83-CA27-4418-92E8-EF6D36AD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CDAE-BF0A-42A6-90AB-CEDA2B9E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16A6-CAE8-4BDC-8739-C6DE57C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394E-9613-48FA-8062-7B13550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8F09-3F08-4537-BAC5-234E8F5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438D-0C57-48E5-8900-D29652E0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35C2-E467-4F23-830E-1EE5D86B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B5FC-39B8-43FE-9756-190F7089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FA73D-366F-41A9-BC7A-E0C29051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50746-1FA7-4FD2-BD22-7762BD0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963F7-EF4C-468C-AA18-90A85A5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BF8-6F82-4E01-847C-8B6FE653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16023-3E81-4D8E-B20F-93EEE8B7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986D5-D328-4B2A-AA08-9FF8B37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A2FC5-D7E8-421F-8A8A-5B4111C0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05105-4FA9-4599-AD23-BCE0656A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CE425-7D83-4111-8AB1-4CB9401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2B1AE-6195-4A1F-9E38-A988C07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40415-1C30-4681-AE07-B9A686B2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5CE92-2787-4E33-B8F9-5EB42A75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4FD96-FCA9-471D-9760-397BEC07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C79AC-6E8E-4229-A930-75434D58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B90-D5A2-4098-B0F2-6AB50DA0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BAE61-F3E0-43A0-BB20-456D9DB5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AC3D6-B218-4883-BF72-91587F9A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7753B-108D-4141-8595-A544E5E4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702B0-E66E-4B85-A07F-46F9264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A6CC4-67F9-4C3D-8D36-43E3CCF1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B4841-A0BB-410E-8F21-B3213E2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B1D5B-B302-46C8-9456-83661AF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15445-2C8F-468A-AD86-E6A9CF33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1E26E-7B05-4B1E-A951-1BFD7D75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F6D48-6D3F-4C34-8F37-01DD007A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C25-411B-4A4F-87AD-E6AAD16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EC388-09A0-438B-BD49-7B596A5A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402D7-F4C4-44B5-AB8B-C8696C70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282A2-9BC8-4C47-9B95-1AFF6562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4CF45-ACDB-4818-A9E8-1D98B5D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F43EF-22E7-4DA7-8E2F-49048DB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17E12-816B-4A39-8BE3-5EEC567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1D233-7DBF-474A-AC79-FA6A7D8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55CDE-97C2-4583-B0F3-E3C982B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1869A-E12E-46AD-B405-E39100A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54CA9-68EC-457F-844F-4C4E1DA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F55-B364-4A95-B368-1D09328F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6530D-F056-4B51-B3DA-31CCF2A9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86807-AB5C-4030-A7E5-AD4B6156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D8D0C-18B2-4B04-BD1B-0E4DECE4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BC7-DC76-4262-A007-73044E0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E6B-B2C1-48F3-8ED2-0BD089A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D170-076C-4737-B763-4F63941D6AF0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A7DA-2E25-4B58-A331-E66BCE479B53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93B5-6247-44D9-9178-89CDDCADB88E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9EC-F07F-4AC6-917C-1936127F37C2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F48-3010-44E9-8AFB-F05617FCA3B0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C5D7-B2D2-4FDE-99D7-B064F82258E0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cey.net/lit/crit19/basni" TargetMode="External"/><Relationship Id="rId2" Type="http://schemas.openxmlformats.org/officeDocument/2006/relationships/hyperlink" Target="http://literra.websib.ru/volsky/text_article.htm?76" TargetMode="External"/><Relationship Id="rId3" Type="http://schemas.openxmlformats.org/officeDocument/2006/relationships/hyperlink" Target="http://www.biografguru.ru/about/krilov/?q=3429&amp;p=1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-109440" y="3816360"/>
            <a:ext cx="9113760" cy="23893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39640" y="549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 Крылов.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аль сей басни такова»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ак как с помощью животных  и вещей неодушевленных дает урок человеку, представляя ему в пример существа, отличные от него натурою и совершенно для него чуждые, читая басню человек понимает, что это про не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3" descr="чел с книгой.jpg"/>
          <p:cNvPicPr/>
          <p:nvPr/>
        </p:nvPicPr>
        <p:blipFill>
          <a:blip r:embed="rId2"/>
          <a:stretch/>
        </p:blipFill>
        <p:spPr>
          <a:xfrm>
            <a:off x="2133720" y="3645000"/>
            <a:ext cx="4876560" cy="3024000"/>
          </a:xfrm>
          <a:prstGeom prst="rect">
            <a:avLst/>
          </a:prstGeom>
          <a:ln w="0">
            <a:noFill/>
          </a:ln>
        </p:spPr>
      </p:pic>
      <p:sp>
        <p:nvSpPr>
          <p:cNvPr id="283" name="Управляющая кнопка: назад 4"/>
          <p:cNvSpPr/>
          <p:nvPr/>
        </p:nvSpPr>
        <p:spPr>
          <a:xfrm>
            <a:off x="795672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83d68"/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Изображение  чудесного сообщается некоторым образом и той морали, которая сокрыта под ним стихотворцем, а читатель, чтобы достигнуть до этой морали, согласен и самую чудесность принимать за естественно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334800" y="146160"/>
            <a:ext cx="8358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Constantia"/>
                <a:hlinkClick r:id="rId1"/>
              </a:rPr>
              <a:t>Василий Андреевич Жуковский. О БАСНЕ И БАСНЯХ КРЫЛ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Constantia"/>
                <a:hlinkClick r:id="rId2"/>
              </a:rPr>
              <a:t>Нестеренко В. Произведение морали (анализ басн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Constantia"/>
                <a:hlinkClick r:id="rId3"/>
              </a:rPr>
              <a:t>Биография  Ивана Андреевича Крыл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Заголовок 2" descr=""/>
          <p:cNvPicPr/>
          <p:nvPr/>
        </p:nvPicPr>
        <p:blipFill>
          <a:blip r:embed="rId4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12120" cy="62420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крылов.jpg"/>
          <p:cNvPicPr/>
          <p:nvPr/>
        </p:nvPicPr>
        <p:blipFill>
          <a:blip r:embed="rId2"/>
          <a:stretch/>
        </p:blipFill>
        <p:spPr>
          <a:xfrm>
            <a:off x="1979640" y="0"/>
            <a:ext cx="4968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128520" y="146160"/>
            <a:ext cx="85647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132840" cy="68709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" descr="свеча.jpg"/>
          <p:cNvPicPr/>
          <p:nvPr/>
        </p:nvPicPr>
        <p:blipFill>
          <a:blip r:embed="rId2"/>
          <a:stretch/>
        </p:blipFill>
        <p:spPr>
          <a:xfrm>
            <a:off x="6227640" y="260280"/>
            <a:ext cx="2762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71280" y="1483920"/>
            <a:ext cx="77151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отворный рассказ происшествия, в котором действующими лицами бывают или животные, или герои неодушевленны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9634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это.png"/>
          <p:cNvPicPr/>
          <p:nvPr/>
        </p:nvPicPr>
        <p:blipFill>
          <a:blip r:embed="rId2"/>
          <a:stretch/>
        </p:blipFill>
        <p:spPr>
          <a:xfrm>
            <a:off x="5292720" y="314172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Это впечатление в уме какой-нибудь нравственной истины, заимствуемой из общежития и, следовательно, более или менее полезно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мартыха.jpg"/>
          <p:cNvPicPr/>
          <p:nvPr/>
        </p:nvPicPr>
        <p:blipFill>
          <a:blip r:embed="rId2"/>
          <a:stretch/>
        </p:blipFill>
        <p:spPr>
          <a:xfrm>
            <a:off x="3924360" y="3213000"/>
            <a:ext cx="468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94920" y="2997000"/>
            <a:ext cx="75294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собенность характер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Удовольствие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сравнивать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 вымышленное с существующи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Басня есть нравственный 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у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Прелесть чудесно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324000" y="-6480"/>
            <a:ext cx="772956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оторою каждое животное отличено от другого. Басня есть мораль в действии; в ней общие понятия нравственности, извлекаемые из общежития, применяются к случаю частному. Мир басни- это чистое зеркало, в котором отражается 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Constantia"/>
              </a:rPr>
              <a:t>мир человеческий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Животные представляют в не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еловека. Каждое животное, имее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тоянный характер, например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ыходит на сцену лисица — и м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идим  льстеца или обманщ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" descr="Image2290.jpg"/>
          <p:cNvPicPr/>
          <p:nvPr/>
        </p:nvPicPr>
        <p:blipFill>
          <a:blip r:embed="rId2"/>
          <a:stretch/>
        </p:blipFill>
        <p:spPr>
          <a:xfrm>
            <a:off x="6180120" y="3357720"/>
            <a:ext cx="2963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еренося воображение читателя в новый мечтательный мир, Крылов доставляете ему удовольствие 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равнива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 вымышленное с существующим (которому первое служит подобием), а удовольствие сравнения делает и саму мораль привлекательн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693280" cy="1354320"/>
          </a:xfrm>
          <a:prstGeom prst="rect">
            <a:avLst/>
          </a:prstGeom>
          <a:ln w="0">
            <a:noFill/>
          </a:ln>
        </p:spPr>
      </p:pic>
      <p:sp>
        <p:nvSpPr>
          <p:cNvPr id="279" name="Управляющая кнопка: назад 3"/>
          <p:cNvSpPr/>
          <p:nvPr/>
        </p:nvSpPr>
        <p:spPr>
          <a:xfrm>
            <a:off x="7812000" y="5805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</a:pathLst>
          </a:custGeom>
          <a:solidFill>
            <a:srgbClr val="b83d68"/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20:05:21Z</dcterms:created>
  <dc:creator>я</dc:creator>
  <dc:description/>
  <dc:language>en-US</dc:language>
  <cp:lastModifiedBy>я</cp:lastModifiedBy>
  <dcterms:modified xsi:type="dcterms:W3CDTF">2011-04-26T10:45:19Z</dcterms:modified>
  <cp:revision>15</cp:revision>
  <dc:subject/>
  <dc:title>Выполнила: ученица 5б класса Аксенова Анна.</dc:title>
</cp:coreProperties>
</file>